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F37EA-8025-460F-BBF0-CAF7C5208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DECD9-23BC-4F1B-9543-B94ECBC8B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6AA5F-5B39-4EA4-A080-D98E13B13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291F1-61FF-4406-8E5F-ABE5778CD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FFC03-1E8A-4960-A26D-0AC2B00B9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26048-7984-4972-A561-A97D721C5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85F6B-9ED3-42D3-BD97-85A6F4A20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734AD-CFC8-47E4-A770-83A30B9C2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012D9-94D7-477A-8914-9966B7720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E83E-2B6E-4E96-90AC-46CF84C65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FDA6-997F-40AC-85CD-DE1BC75E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84E0-CC4A-4253-8AA0-06BC3A715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FF3F-3008-45F3-B48F-B01D82D43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a:t>
            </a:r>
            <a:r>
              <a:rPr b="0" i="1" lang="en-GB" sz="1000" spc="-1" strike="noStrike">
                <a:solidFill>
                  <a:srgbClr val="000000"/>
                </a:solidFill>
                <a:latin typeface="Arial"/>
              </a:rPr>
              <a:t>B</a:t>
            </a:r>
            <a:r>
              <a:rPr b="0" i="1" lang="ro-RO" sz="1000" spc="-1" strike="noStrike">
                <a:solidFill>
                  <a:srgbClr val="000000"/>
                </a:solidFill>
                <a:latin typeface="Arial"/>
              </a:rPr>
              <a:t>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a:t>
            </a:r>
            <a:r>
              <a:rPr b="0" lang="ro-RO" sz="1000" spc="-1" strike="noStrike">
                <a:solidFill>
                  <a:srgbClr val="000000"/>
                </a:solidFill>
                <a:latin typeface="Arial"/>
              </a:rPr>
              <a:t>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numărul de specii biologice. </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metabolism-schimb permanent de substanţă, energie şi informaţie dintre organismul viu şi mediul său de viaţă - şi au ca trăsături definitorii: autoconservarea, autodezvoltarea, autoreglarea şi autoreproducerea.</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unitatea lumii vii,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mecanismului eredităţii.</a:t>
            </a:r>
            <a:endParaRPr b="0" lang="en-US" sz="1200" spc="-1" strike="noStrike">
              <a:solidFill>
                <a:srgbClr val="000000"/>
              </a:solidFill>
              <a:latin typeface="Arial"/>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fundamentul molecular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Picture 7" descr="comp_i"/>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o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i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3-08T12:46:17Z</dcterms:modified>
  <cp:revision>2</cp:revision>
  <dc:subject>CNEE</dc:subject>
  <dc:title>CNE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